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12CE-162E-4DCC-8C6F-DF753BB4AB5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6655-2AF0-4F61-A9D4-DFB4AFA4555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78F80-3E59-4E04-AF95-DB6FE55D7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8A5EA-8A74-4F39-87A0-66235B704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2D2BE-AFCF-427B-97C5-674E7D282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25E2A-88CD-4BC5-9E36-BF934302F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795E7-3B68-45C7-A085-78951A645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91BD5-4195-4605-8593-4520C3603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614DD-BCC5-437D-B239-EB5789861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66215-46EF-4BD6-B3C9-C411F27D0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716E2-009D-4FC8-8A75-2B1E9958D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4EC0A-E50F-43F7-9395-7D8E34803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99789-25FD-488D-BF22-26E1052FB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362C1-B540-4285-AB91-CD03182A8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A8FD-9910-4AA7-B255-B55C68E278A0}"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2.xml"/><Relationship Id="rId8" Type="http://schemas.openxmlformats.org/officeDocument/2006/relationships/slide" Target="slide14.xml"/><Relationship Id="rId9" Type="http://schemas.openxmlformats.org/officeDocument/2006/relationships/slide" Target="slide16.xml"/><Relationship Id="rId10" Type="http://schemas.openxmlformats.org/officeDocument/2006/relationships/slide" Target="slide26.xml"/><Relationship Id="rId11" Type="http://schemas.openxmlformats.org/officeDocument/2006/relationships/slide" Target="slide36.xml"/><Relationship Id="rId12" Type="http://schemas.openxmlformats.org/officeDocument/2006/relationships/slide" Target="slide46.xml"/><Relationship Id="rId13" Type="http://schemas.openxmlformats.org/officeDocument/2006/relationships/slide" Target="slide18.xml"/><Relationship Id="rId14" Type="http://schemas.openxmlformats.org/officeDocument/2006/relationships/slide" Target="slide28.xml"/><Relationship Id="rId15" Type="http://schemas.openxmlformats.org/officeDocument/2006/relationships/slide" Target="slide38.xml"/><Relationship Id="rId16" Type="http://schemas.openxmlformats.org/officeDocument/2006/relationships/slide" Target="slide48.xml"/><Relationship Id="rId17" Type="http://schemas.openxmlformats.org/officeDocument/2006/relationships/slide" Target="slide20.xml"/><Relationship Id="rId18" Type="http://schemas.openxmlformats.org/officeDocument/2006/relationships/slide" Target="slide22.xml"/><Relationship Id="rId19" Type="http://schemas.openxmlformats.org/officeDocument/2006/relationships/slide" Target="slide24.xml"/><Relationship Id="rId20" Type="http://schemas.openxmlformats.org/officeDocument/2006/relationships/slide" Target="slide30.xml"/><Relationship Id="rId21" Type="http://schemas.openxmlformats.org/officeDocument/2006/relationships/slide" Target="slide40.xml"/><Relationship Id="rId22" Type="http://schemas.openxmlformats.org/officeDocument/2006/relationships/slide" Target="slide50.xml"/><Relationship Id="rId23" Type="http://schemas.openxmlformats.org/officeDocument/2006/relationships/slide" Target="slide32.xml"/><Relationship Id="rId24" Type="http://schemas.openxmlformats.org/officeDocument/2006/relationships/slide" Target="slide42.xml"/><Relationship Id="rId25" Type="http://schemas.openxmlformats.org/officeDocument/2006/relationships/slide" Target="slide52.xml"/><Relationship Id="rId26" Type="http://schemas.openxmlformats.org/officeDocument/2006/relationships/slide" Target="slide34.xml"/><Relationship Id="rId27" Type="http://schemas.openxmlformats.org/officeDocument/2006/relationships/slide" Target="slide44.xml"/><Relationship Id="rId28" Type="http://schemas.openxmlformats.org/officeDocument/2006/relationships/slide" Target="slide54.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you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3"/>
          <p:cNvSpPr/>
          <p:nvPr/>
        </p:nvSpPr>
        <p:spPr>
          <a:xfrm>
            <a:off x="685800" y="4572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second respiratory illness might you develop because of bronchit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5"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neumoni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Text Box 3"/>
          <p:cNvSpPr/>
          <p:nvPr/>
        </p:nvSpPr>
        <p:spPr>
          <a:xfrm>
            <a:off x="685800" y="1981080"/>
            <a:ext cx="7848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does sinusitis occu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1"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6"/>
          <p:cNvSpPr/>
          <p:nvPr/>
        </p:nvSpPr>
        <p:spPr>
          <a:xfrm>
            <a:off x="609480" y="117360"/>
            <a:ext cx="7848720" cy="66776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inusitis occurs because of a cold or allergies when nasal passages become more swolle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3"/>
          <p:cNvSpPr/>
          <p:nvPr/>
        </p:nvSpPr>
        <p:spPr>
          <a:xfrm>
            <a:off x="685800" y="990720"/>
            <a:ext cx="7848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worst thing one can do to their respiratory syst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mok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838080" y="1676520"/>
            <a:ext cx="78487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way to guarantee optimal heal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1295280"/>
            <a:ext cx="7696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ercising, specifically running, jogging, or bicycl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762120" y="1295280"/>
            <a:ext cx="7848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urpose of the Heimlich maneuv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09480" y="15238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eimlich maneuver prevents someone from chok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68580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do you use the abdominal thrus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838080"/>
            <a:ext cx="80010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dominal thrust is used for unconscious victims who are lying on their back.</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8380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any emergency situation one should use the “three c’s”.  What are the “the c’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eck, call, and care!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does most lung cancer sta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the bronchial tub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oes emphysema cau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4"/>
          <p:cNvSpPr/>
          <p:nvPr/>
        </p:nvSpPr>
        <p:spPr>
          <a:xfrm>
            <a:off x="609480" y="1371600"/>
            <a:ext cx="8001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hortness in brea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is tuberculosis spre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rough the air, when people cough, sneeze, or sp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result of laryngit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aspy voi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685800" y="18288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lining of your chest and lungs call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eura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762120" y="1295280"/>
            <a:ext cx="78483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system is the exchange of gases between you and your environ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0948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spiratory Syst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ain function of the respiratory syst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762120" y="838080"/>
            <a:ext cx="784836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supply the blood with oxygen so the blood can deliver oxygen to all parts of the bod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685800" y="1828800"/>
            <a:ext cx="7848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the types of respir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mergenc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 </a:t>
            </a:r>
            <a:r>
              <a:rPr b="1" lang="en-US" sz="2400" spc="-1" strike="noStrike">
                <a:solidFill>
                  <a:srgbClr val="ff9933"/>
                </a:solidFill>
                <a:latin typeface="Times New Roman"/>
              </a:rPr>
              <a:t>First Aid</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Overview/</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 </a:t>
            </a:r>
            <a:r>
              <a:rPr b="1" lang="en-US" sz="2200" spc="-1" strike="noStrike">
                <a:solidFill>
                  <a:srgbClr val="ff9933"/>
                </a:solidFill>
                <a:latin typeface="Times New Roman"/>
              </a:rPr>
              <a:t>Relation to</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Other Systems </a:t>
            </a:r>
            <a:endParaRPr b="1" lang="en-US" sz="22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ructure an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unction</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isease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isorder</a:t>
            </a:r>
            <a:endParaRPr b="1" lang="en-US" sz="2400" spc="-1" strike="noStrike">
              <a:solidFill>
                <a:srgbClr val="ff9933"/>
              </a:solidFill>
              <a:latin typeface="Times New Roman"/>
            </a:endParaRPr>
          </a:p>
        </p:txBody>
      </p:sp>
      <p:pic>
        <p:nvPicPr>
          <p:cNvPr id="86" name="Picture 61"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udden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Illnesses</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762120" y="1981080"/>
            <a:ext cx="76197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ternal and extern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83808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other systems is the respiratory system related to?</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09480" y="1676520"/>
            <a:ext cx="81536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irculatory, excretory, and muscula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0" name="AutoShape 2"/>
          <p:cNvSpPr/>
          <p:nvPr/>
        </p:nvSpPr>
        <p:spPr>
          <a:xfrm>
            <a:off x="0" y="7632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762120" y="1447920"/>
            <a:ext cx="78483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ould happen without the respiratory syst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09480" y="160020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e would not be able to surviv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762120" y="1447920"/>
            <a:ext cx="78483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prepares the air for the lungs by clearing out any dirt or dus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1981080"/>
            <a:ext cx="7772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o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does air enter the body and travel directly to the lung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533520" y="18288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ou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1981080"/>
            <a:ext cx="78487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ain muscle used while breath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3"/>
          <p:cNvSpPr/>
          <p:nvPr/>
        </p:nvSpPr>
        <p:spPr>
          <a:xfrm>
            <a:off x="762120" y="914400"/>
            <a:ext cx="784836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est way to prevent respiratory illnesses, or any system’s illnes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diaphrag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the branches that lead from the trachea to each lu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09480" y="2438280"/>
            <a:ext cx="8001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bronchial tub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1828800"/>
            <a:ext cx="78487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are the vocal chords locat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the larynx</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the 5 diseases and disord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ung cancer, tuberculosis, emphysema, laryngitis, and pleur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1"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7"/>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ndwash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3"/>
          <p:cNvSpPr/>
          <p:nvPr/>
        </p:nvSpPr>
        <p:spPr>
          <a:xfrm>
            <a:off x="68580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ost common symptom of any respiratory ailment?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6" name="Text Box 2"/>
          <p:cNvSpPr/>
          <p:nvPr/>
        </p:nvSpPr>
        <p:spPr>
          <a:xfrm>
            <a:off x="0" y="1828800"/>
            <a:ext cx="80773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5"/>
          <p:cNvSpPr/>
          <p:nvPr/>
        </p:nvSpPr>
        <p:spPr>
          <a:xfrm>
            <a:off x="685800" y="16002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ommon coug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Text Box 3"/>
          <p:cNvSpPr/>
          <p:nvPr/>
        </p:nvSpPr>
        <p:spPr>
          <a:xfrm>
            <a:off x="762120" y="685800"/>
            <a:ext cx="784836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ge group develops bronchitis the easiest: the elderly or the you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bbell</cp:lastModifiedBy>
  <dcterms:modified xsi:type="dcterms:W3CDTF">2010-03-09T17:45:30Z</dcterms:modified>
  <cp:revision>30</cp:revision>
  <dc:subject/>
  <dc:title>No Slide Title</dc:title>
</cp:coreProperties>
</file>